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C66F-9BB0-4712-AAC1-EF8F75FB5C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B68-A587-49F5-AB87-F9258E30BAA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18D-70E9-456F-BBFA-A936AD2E51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5958-09DB-4037-B6A6-2E1DAF452E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4FB0-623B-4CB6-A532-8953B13FEB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8B7-2AD2-42D1-9F6A-FA1CD8110E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C3B-394B-4F30-886A-6BBDAA78001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18E-381A-4ECF-87A5-8AEAC423B0B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20A-DCFE-46A2-AB18-CC10233E325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AF2E-8CBF-4E04-8856-9A1A1B68D6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9075-8184-47D4-8A86-CF93843344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57C-31F9-4880-A0C9-227F4FEF1F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D90D-4A7E-4036-8EBA-4FD1800665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9805-23AA-4E0A-A5AF-31FA80B3BC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3D1B-DC29-44B0-BB56-E8C1AA83A1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D77-3591-4A60-8F2E-246236E93C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73BD-93F9-484D-95D1-549C3EDCD7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76D1-584B-448F-BE9A-D25E5B7FDB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C3AD-2D62-4084-81FD-099A39D37A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B011-7E22-4716-A770-75CA56FA3D4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946-DF15-4D0D-AD39-325A210A4D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AC6-2CD4-4D71-A339-13A3B9D36D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041-9B9A-407E-B58C-A1A1FFEEAC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FFA-8150-46E5-BDDF-64446CF351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7BF-F008-4CD0-B285-57E3EEFB54E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8CC-C1C4-4D7B-9C88-D31D887C0E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62E-C58B-44A9-9E3B-9DDEF70C2F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CC7-107E-4293-BDCF-45B4891E61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0BAA-F67C-41E3-A8FC-0C6523FC3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8DCD-709F-4BC8-885F-6851B98AC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99CA-ADC8-49F4-8F08-3D377DF43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EC36-9B84-4F7C-BE1C-7B7188F80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807C-58E8-49BC-A93E-9D02AF544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3F59-85EE-4440-B12A-8866F16B7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6493-1264-4FD5-8C71-F4E91340E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0562-3A7E-4C6D-8B9B-792B80317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2836-FB3A-4900-9D86-DBA415D11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437D-1D59-4731-8455-C94E480C4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7A03-1DB6-40D2-83AE-8B426B6C0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0831-05B7-48A1-9454-BB6755CB7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EF31-FE05-482F-8429-020AE8A7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198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4198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722600" y="617220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 de Eileen Cruz Pastrana-Universidad de Puerto Rico,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eño de un filtro HE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2971800" y="2286000"/>
            <a:ext cx="2743200" cy="3035160"/>
            <a:chOff x="2971800" y="2286000"/>
            <a:chExt cx="2743200" cy="3035160"/>
          </a:xfrm>
        </p:grpSpPr>
        <p:sp>
          <p:nvSpPr>
            <p:cNvPr id="76" name="Line 5"/>
            <p:cNvSpPr/>
            <p:nvPr/>
          </p:nvSpPr>
          <p:spPr>
            <a:xfrm>
              <a:off x="29718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V="1">
              <a:off x="2971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3200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"/>
            <p:cNvSpPr/>
            <p:nvPr/>
          </p:nvSpPr>
          <p:spPr>
            <a:xfrm flipV="1">
              <a:off x="3429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3657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5257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5486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 flipV="1">
              <a:off x="4800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5029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 flipV="1">
              <a:off x="4343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4572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 flipV="1">
              <a:off x="3886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4114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57150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3200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3"/>
            <p:cNvSpPr/>
            <p:nvPr/>
          </p:nvSpPr>
          <p:spPr>
            <a:xfrm>
              <a:off x="3429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3657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3886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4114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4343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572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800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5029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>
              <a:off x="5257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>
              <a:off x="5486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4"/>
            <p:cNvSpPr/>
            <p:nvPr/>
          </p:nvSpPr>
          <p:spPr>
            <a:xfrm>
              <a:off x="3401640" y="228600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Suc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3526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6"/>
            <p:cNvSpPr/>
            <p:nvPr/>
          </p:nvSpPr>
          <p:spPr>
            <a:xfrm>
              <a:off x="40384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46483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53341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"/>
            <p:cNvSpPr/>
            <p:nvPr/>
          </p:nvSpPr>
          <p:spPr>
            <a:xfrm>
              <a:off x="3346560" y="48006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34"/>
          <p:cNvSpPr/>
          <p:nvPr/>
        </p:nvSpPr>
        <p:spPr>
          <a:xfrm>
            <a:off x="6477120" y="5610240"/>
            <a:ext cx="236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xtractor limpio típico tiene un filtro HEPA montado en la parte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 “sucio” pasa por el filtro y sale en un patrón la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antalla distribuye el aire que sale sobre el área de trabajo en el extr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tipo de extractor se conoce como extractor de flujo laminar vertical (VFL, por sus siglas en inglé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te Transversal de un Extractor V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533520" y="1447920"/>
            <a:ext cx="8305560" cy="4452480"/>
            <a:chOff x="533520" y="1447920"/>
            <a:chExt cx="8305560" cy="4452480"/>
          </a:xfrm>
        </p:grpSpPr>
        <p:sp>
          <p:nvSpPr>
            <p:cNvPr id="113" name="Rectangle 3"/>
            <p:cNvSpPr/>
            <p:nvPr/>
          </p:nvSpPr>
          <p:spPr>
            <a:xfrm>
              <a:off x="2514600" y="1905120"/>
              <a:ext cx="3809880" cy="388620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1"/>
            <p:cNvGrpSpPr/>
            <p:nvPr/>
          </p:nvGrpSpPr>
          <p:grpSpPr>
            <a:xfrm>
              <a:off x="838080" y="1600200"/>
              <a:ext cx="1904760" cy="1066680"/>
              <a:chOff x="838080" y="1600200"/>
              <a:chExt cx="1904760" cy="1066680"/>
            </a:xfrm>
          </p:grpSpPr>
          <p:sp>
            <p:nvSpPr>
              <p:cNvPr id="115" name="Rounded Rectangle 6"/>
              <p:cNvSpPr/>
              <p:nvPr/>
            </p:nvSpPr>
            <p:spPr>
              <a:xfrm>
                <a:off x="2285640" y="2057400"/>
                <a:ext cx="457200" cy="60948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09480"/>
                  <a:gd name="textAreaBottom" fmla="*/ 587160 h 609480"/>
                </a:gdLst>
                <a:ahLst/>
                <a:rect l="textAreaLeft" t="textAreaTop" r="textAreaRight" b="textAreaBottom"/>
                <a:pathLst>
                  <a:path w="21600" h="28789">
                    <a:moveTo>
                      <a:pt x="3600" y="0"/>
                    </a:moveTo>
                    <a:arcTo wR="3600" hR="3600" stAng="16200000" swAng="-5400000"/>
                    <a:lnTo>
                      <a:pt x="0" y="25189"/>
                    </a:lnTo>
                    <a:arcTo wR="3600" hR="3600" stAng="10800000" swAng="-5400000"/>
                    <a:lnTo>
                      <a:pt x="18000" y="287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162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Straight Arrow Connector 10"/>
              <p:cNvCxnSpPr>
                <a:endCxn id="115" idx="1"/>
              </p:cNvCxnSpPr>
              <p:nvPr/>
            </p:nvCxnSpPr>
            <p:spPr>
              <a:xfrm>
                <a:off x="1675800" y="1904760"/>
                <a:ext cx="6102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7" name="TextBox 13"/>
              <p:cNvSpPr/>
              <p:nvPr/>
            </p:nvSpPr>
            <p:spPr>
              <a:xfrm>
                <a:off x="838080" y="160020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filtr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0"/>
            <p:cNvGrpSpPr/>
            <p:nvPr/>
          </p:nvGrpSpPr>
          <p:grpSpPr>
            <a:xfrm>
              <a:off x="3886200" y="1973160"/>
              <a:ext cx="914400" cy="860760"/>
              <a:chOff x="3886200" y="1973160"/>
              <a:chExt cx="914400" cy="860760"/>
            </a:xfrm>
          </p:grpSpPr>
          <p:sp>
            <p:nvSpPr>
              <p:cNvPr id="119" name="Oval 19"/>
              <p:cNvSpPr/>
              <p:nvPr/>
            </p:nvSpPr>
            <p:spPr>
              <a:xfrm>
                <a:off x="3886200" y="2057400"/>
                <a:ext cx="9144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Pie 14"/>
              <p:cNvSpPr/>
              <p:nvPr/>
            </p:nvSpPr>
            <p:spPr>
              <a:xfrm rot="584400">
                <a:off x="4038120" y="209016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561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Pie 15"/>
              <p:cNvSpPr/>
              <p:nvPr/>
            </p:nvSpPr>
            <p:spPr>
              <a:xfrm rot="18701400">
                <a:off x="4041360" y="20988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09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Pie 16"/>
              <p:cNvSpPr/>
              <p:nvPr/>
            </p:nvSpPr>
            <p:spPr>
              <a:xfrm rot="14284800">
                <a:off x="4039560" y="210168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1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Pie 17"/>
              <p:cNvSpPr/>
              <p:nvPr/>
            </p:nvSpPr>
            <p:spPr>
              <a:xfrm rot="8996400">
                <a:off x="4037760" y="209808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7206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Pie 18"/>
              <p:cNvSpPr/>
              <p:nvPr/>
            </p:nvSpPr>
            <p:spPr>
              <a:xfrm rot="4338000">
                <a:off x="4042440" y="20970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1862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" name="Straight Arrow Connector 25"/>
            <p:cNvCxnSpPr>
              <a:endCxn id="119" idx="7"/>
            </p:cNvCxnSpPr>
            <p:nvPr/>
          </p:nvCxnSpPr>
          <p:spPr>
            <a:xfrm flipH="1">
              <a:off x="4667040" y="1676520"/>
              <a:ext cx="21024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6" name="TextBox 26"/>
            <p:cNvSpPr/>
            <p:nvPr/>
          </p:nvSpPr>
          <p:spPr>
            <a:xfrm>
              <a:off x="4876920" y="1447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anic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urved Down Arrow 27"/>
            <p:cNvSpPr/>
            <p:nvPr/>
          </p:nvSpPr>
          <p:spPr>
            <a:xfrm>
              <a:off x="3657600" y="1981080"/>
              <a:ext cx="1295280" cy="380880"/>
            </a:xfrm>
            <a:custGeom>
              <a:avLst/>
              <a:gdLst>
                <a:gd name="textAreaLeft" fmla="*/ 288000 w 1295280"/>
                <a:gd name="textAreaRight" fmla="*/ 959760 w 12952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09" hR="21600" stAng="10800000" swAng="5400000"/>
                  <a:lnTo>
                    <a:pt x="11197" y="0"/>
                  </a:lnTo>
                  <a:arcTo wR="9609" hR="21600" stAng="-5400000" swAng="3592139"/>
                  <a:lnTo>
                    <a:pt x="21295" y="16200"/>
                  </a:lnTo>
                  <a:lnTo>
                    <a:pt x="20012" y="21600"/>
                  </a:lnTo>
                  <a:lnTo>
                    <a:pt x="18119" y="16200"/>
                  </a:lnTo>
                  <a:lnTo>
                    <a:pt x="18913" y="16200"/>
                  </a:lnTo>
                  <a:arcTo wR="9609" hR="21600" stAng="-1807861" swAng="-3465393"/>
                  <a:lnTo>
                    <a:pt x="10403" y="74"/>
                  </a:lnTo>
                  <a:arcTo wR="9609" hR="21600" stAng="-5526745" swAng="-5273255"/>
                  <a:close/>
                </a:path>
                <a:path fill="darkenLess" w="21600" h="21600">
                  <a:moveTo>
                    <a:pt x="0" y="21600"/>
                  </a:moveTo>
                  <a:arcTo wR="9609" hR="21600" stAng="10800000" swAng="5400000"/>
                  <a:lnTo>
                    <a:pt x="9609" y="0"/>
                  </a:lnTo>
                  <a:arcTo wR="9609" hR="21600" stAng="-5400000" swAng="126745"/>
                  <a:lnTo>
                    <a:pt x="10403" y="74"/>
                  </a:lnTo>
                  <a:arcTo wR="9609" hR="21600" stAng="-5526745" swAng="-527325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Curved Connector 30"/>
            <p:cNvCxnSpPr>
              <a:endCxn id="115" idx="1"/>
            </p:cNvCxnSpPr>
            <p:nvPr/>
          </p:nvCxnSpPr>
          <p:spPr>
            <a:xfrm flipV="1">
              <a:off x="1599840" y="2361600"/>
              <a:ext cx="68652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29" name="Curved Connector 32"/>
            <p:cNvCxnSpPr>
              <a:endCxn id="115" idx="1"/>
            </p:cNvCxnSpPr>
            <p:nvPr/>
          </p:nvCxnSpPr>
          <p:spPr>
            <a:xfrm>
              <a:off x="1294920" y="1981080"/>
              <a:ext cx="9910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30" name="Shape 35"/>
            <p:cNvCxnSpPr>
              <a:endCxn id="115" idx="1"/>
            </p:cNvCxnSpPr>
            <p:nvPr/>
          </p:nvCxnSpPr>
          <p:spPr>
            <a:xfrm flipH="1" rot="16200000">
              <a:off x="1828440" y="1904400"/>
              <a:ext cx="610200" cy="305280"/>
            </a:xfrm>
            <a:prstGeom prst="curvedConnector2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31" name="Straight Arrow Connector 39"/>
            <p:cNvCxnSpPr>
              <a:stCxn id="115" idx="3"/>
              <a:endCxn id="127" idx="1"/>
            </p:cNvCxnSpPr>
            <p:nvPr/>
          </p:nvCxnSpPr>
          <p:spPr>
            <a:xfrm>
              <a:off x="2743200" y="2362320"/>
              <a:ext cx="962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sp>
          <p:nvSpPr>
            <p:cNvPr id="132" name="TextBox 41"/>
            <p:cNvSpPr/>
            <p:nvPr/>
          </p:nvSpPr>
          <p:spPr>
            <a:xfrm>
              <a:off x="533520" y="2743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8a"/>
                  </a:solidFill>
                  <a:latin typeface="Arial"/>
                </a:rPr>
                <a:t>Flujo de Ai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3149640" y="5010480"/>
              <a:ext cx="3200400" cy="78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62"/>
            <p:cNvSpPr/>
            <p:nvPr/>
          </p:nvSpPr>
          <p:spPr>
            <a:xfrm>
              <a:off x="6934320" y="52578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erficie de trabaj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66"/>
            <p:cNvSpPr/>
            <p:nvPr/>
          </p:nvSpPr>
          <p:spPr>
            <a:xfrm flipH="1">
              <a:off x="6324480" y="3354480"/>
              <a:ext cx="1440" cy="16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79"/>
            <p:cNvSpPr/>
            <p:nvPr/>
          </p:nvSpPr>
          <p:spPr>
            <a:xfrm flipH="1">
              <a:off x="5865840" y="3506760"/>
              <a:ext cx="2880" cy="99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84"/>
            <p:cNvSpPr/>
            <p:nvPr/>
          </p:nvSpPr>
          <p:spPr>
            <a:xfrm flipH="1">
              <a:off x="5334120" y="3506760"/>
              <a:ext cx="1440" cy="83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86"/>
            <p:cNvSpPr/>
            <p:nvPr/>
          </p:nvSpPr>
          <p:spPr>
            <a:xfrm flipH="1">
              <a:off x="4876920" y="3583080"/>
              <a:ext cx="1440" cy="608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90"/>
            <p:cNvSpPr/>
            <p:nvPr/>
          </p:nvSpPr>
          <p:spPr>
            <a:xfrm flipH="1">
              <a:off x="3960720" y="3583080"/>
              <a:ext cx="288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94"/>
            <p:cNvSpPr/>
            <p:nvPr/>
          </p:nvSpPr>
          <p:spPr>
            <a:xfrm flipH="1">
              <a:off x="3429000" y="3583080"/>
              <a:ext cx="1440" cy="303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Straight Arrow Connector 98"/>
            <p:cNvCxnSpPr/>
            <p:nvPr/>
          </p:nvCxnSpPr>
          <p:spPr>
            <a:xfrm flipH="1" flipV="1">
              <a:off x="2133000" y="4495680"/>
              <a:ext cx="373428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42" name="Straight Arrow Connector 100"/>
            <p:cNvCxnSpPr/>
            <p:nvPr/>
          </p:nvCxnSpPr>
          <p:spPr>
            <a:xfrm flipH="1" flipV="1">
              <a:off x="1980360" y="4343040"/>
              <a:ext cx="33534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43" name="Straight Arrow Connector 102"/>
            <p:cNvCxnSpPr/>
            <p:nvPr/>
          </p:nvCxnSpPr>
          <p:spPr>
            <a:xfrm flipH="1" flipV="1">
              <a:off x="1904400" y="4190760"/>
              <a:ext cx="297252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44" name="Straight Arrow Connector 104"/>
            <p:cNvCxnSpPr/>
            <p:nvPr/>
          </p:nvCxnSpPr>
          <p:spPr>
            <a:xfrm flipH="1" flipV="1">
              <a:off x="1904760" y="4038480"/>
              <a:ext cx="205776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45" name="Straight Arrow Connector 107"/>
            <p:cNvCxnSpPr/>
            <p:nvPr/>
          </p:nvCxnSpPr>
          <p:spPr>
            <a:xfrm flipH="1" flipV="1">
              <a:off x="1904400" y="3885840"/>
              <a:ext cx="15246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grpSp>
          <p:nvGrpSpPr>
            <p:cNvPr id="146" name="Group 129"/>
            <p:cNvGrpSpPr/>
            <p:nvPr/>
          </p:nvGrpSpPr>
          <p:grpSpPr>
            <a:xfrm>
              <a:off x="2513880" y="2819520"/>
              <a:ext cx="3810600" cy="533160"/>
              <a:chOff x="2513880" y="2819520"/>
              <a:chExt cx="3810600" cy="533160"/>
            </a:xfrm>
          </p:grpSpPr>
          <p:sp>
            <p:nvSpPr>
              <p:cNvPr id="147" name="Rectangle 40"/>
              <p:cNvSpPr/>
              <p:nvPr/>
            </p:nvSpPr>
            <p:spPr>
              <a:xfrm>
                <a:off x="2514600" y="2819520"/>
                <a:ext cx="3809880" cy="53316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116"/>
              <p:cNvSpPr/>
              <p:nvPr/>
            </p:nvSpPr>
            <p:spPr>
              <a:xfrm>
                <a:off x="2513880" y="30859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118"/>
              <p:cNvSpPr/>
              <p:nvPr/>
            </p:nvSpPr>
            <p:spPr>
              <a:xfrm>
                <a:off x="266688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Straight Connector 119"/>
              <p:cNvSpPr/>
              <p:nvPr/>
            </p:nvSpPr>
            <p:spPr>
              <a:xfrm>
                <a:off x="304776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Straight Connector 120"/>
              <p:cNvSpPr/>
              <p:nvPr/>
            </p:nvSpPr>
            <p:spPr>
              <a:xfrm>
                <a:off x="3429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121"/>
              <p:cNvSpPr/>
              <p:nvPr/>
            </p:nvSpPr>
            <p:spPr>
              <a:xfrm>
                <a:off x="38862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122"/>
              <p:cNvSpPr/>
              <p:nvPr/>
            </p:nvSpPr>
            <p:spPr>
              <a:xfrm>
                <a:off x="43434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Straight Connector 123"/>
              <p:cNvSpPr/>
              <p:nvPr/>
            </p:nvSpPr>
            <p:spPr>
              <a:xfrm>
                <a:off x="48006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Straight Connector 124"/>
              <p:cNvSpPr/>
              <p:nvPr/>
            </p:nvSpPr>
            <p:spPr>
              <a:xfrm>
                <a:off x="52578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125"/>
              <p:cNvSpPr/>
              <p:nvPr/>
            </p:nvSpPr>
            <p:spPr>
              <a:xfrm>
                <a:off x="5715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127"/>
              <p:cNvSpPr/>
              <p:nvPr/>
            </p:nvSpPr>
            <p:spPr>
              <a:xfrm>
                <a:off x="6095160" y="28195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8" name="Straight Arrow Connector 111"/>
            <p:cNvCxnSpPr/>
            <p:nvPr/>
          </p:nvCxnSpPr>
          <p:spPr>
            <a:xfrm flipH="1">
              <a:off x="1904760" y="3580560"/>
              <a:ext cx="915120" cy="76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sp>
          <p:nvSpPr>
            <p:cNvPr id="159" name="TextBox 112"/>
            <p:cNvSpPr/>
            <p:nvPr/>
          </p:nvSpPr>
          <p:spPr>
            <a:xfrm>
              <a:off x="6781680" y="28195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Straight Arrow Connector 114"/>
            <p:cNvCxnSpPr>
              <a:stCxn id="159" idx="1"/>
              <a:endCxn id="147" idx="3"/>
            </p:cNvCxnSpPr>
            <p:nvPr/>
          </p:nvCxnSpPr>
          <p:spPr>
            <a:xfrm flipH="1">
              <a:off x="6324120" y="3003120"/>
              <a:ext cx="457920" cy="8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TextBox 154"/>
            <p:cNvSpPr/>
            <p:nvPr/>
          </p:nvSpPr>
          <p:spPr>
            <a:xfrm>
              <a:off x="6781680" y="36576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Straight Arrow Connector 156"/>
            <p:cNvCxnSpPr>
              <a:stCxn id="161" idx="1"/>
            </p:cNvCxnSpPr>
            <p:nvPr/>
          </p:nvCxnSpPr>
          <p:spPr>
            <a:xfrm flipH="1" flipV="1">
              <a:off x="5866920" y="3961800"/>
              <a:ext cx="915120" cy="1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3" name="Group 59"/>
            <p:cNvGrpSpPr/>
            <p:nvPr/>
          </p:nvGrpSpPr>
          <p:grpSpPr>
            <a:xfrm>
              <a:off x="2209680" y="3733920"/>
              <a:ext cx="914760" cy="2057400"/>
              <a:chOff x="2209680" y="3733920"/>
              <a:chExt cx="914760" cy="2057400"/>
            </a:xfrm>
          </p:grpSpPr>
          <p:sp>
            <p:nvSpPr>
              <p:cNvPr id="164" name="Straight Connector 60"/>
              <p:cNvSpPr/>
              <p:nvPr/>
            </p:nvSpPr>
            <p:spPr>
              <a:xfrm flipV="1">
                <a:off x="2514960" y="4351680"/>
                <a:ext cx="609480" cy="10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2209680" y="3733920"/>
                <a:ext cx="762120" cy="2057400"/>
                <a:chOff x="2209680" y="3733920"/>
                <a:chExt cx="762120" cy="2057400"/>
              </a:xfrm>
            </p:grpSpPr>
            <p:sp>
              <p:nvSpPr>
                <p:cNvPr id="166" name="Oval 62"/>
                <p:cNvSpPr/>
                <p:nvPr/>
              </p:nvSpPr>
              <p:spPr>
                <a:xfrm flipH="1">
                  <a:off x="2209680" y="3733920"/>
                  <a:ext cx="609840" cy="411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Straight Connector 63"/>
                <p:cNvSpPr/>
                <p:nvPr/>
              </p:nvSpPr>
              <p:spPr>
                <a:xfrm>
                  <a:off x="2511720" y="4146480"/>
                  <a:ext cx="2880" cy="80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Straight Connector 64"/>
                <p:cNvSpPr/>
                <p:nvPr/>
              </p:nvSpPr>
              <p:spPr>
                <a:xfrm>
                  <a:off x="251496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Straight Connector 65"/>
                <p:cNvSpPr/>
                <p:nvPr/>
              </p:nvSpPr>
              <p:spPr>
                <a:xfrm flipH="1">
                  <a:off x="221040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Straight Connector 67"/>
                <p:cNvSpPr/>
                <p:nvPr/>
              </p:nvSpPr>
              <p:spPr>
                <a:xfrm>
                  <a:off x="2514600" y="4454640"/>
                  <a:ext cx="457200" cy="20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71" name="Straight Arrow Connector 75"/>
            <p:cNvCxnSpPr>
              <a:stCxn id="134" idx="1"/>
              <a:endCxn id="133" idx="3"/>
            </p:cNvCxnSpPr>
            <p:nvPr/>
          </p:nvCxnSpPr>
          <p:spPr>
            <a:xfrm flipH="1" flipV="1">
              <a:off x="6349680" y="5400360"/>
              <a:ext cx="58464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Straight Arrow Connector 43"/>
            <p:cNvCxnSpPr>
              <a:stCxn id="127" idx="3"/>
            </p:cNvCxnSpPr>
            <p:nvPr/>
          </p:nvCxnSpPr>
          <p:spPr>
            <a:xfrm>
              <a:off x="4857840" y="2362320"/>
              <a:ext cx="19440" cy="1219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73" name="Straight Arrow Connector 45"/>
            <p:cNvCxnSpPr/>
            <p:nvPr/>
          </p:nvCxnSpPr>
          <p:spPr>
            <a:xfrm flipH="1">
              <a:off x="5331960" y="2668680"/>
              <a:ext cx="3600" cy="83880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74" name="Straight Arrow Connector 49"/>
            <p:cNvCxnSpPr/>
            <p:nvPr/>
          </p:nvCxnSpPr>
          <p:spPr>
            <a:xfrm flipH="1">
              <a:off x="5866920" y="266688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75" name="Straight Arrow Connector 52"/>
            <p:cNvCxnSpPr/>
            <p:nvPr/>
          </p:nvCxnSpPr>
          <p:spPr>
            <a:xfrm flipH="1">
              <a:off x="3962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76" name="Straight Arrow Connector 53"/>
            <p:cNvCxnSpPr/>
            <p:nvPr/>
          </p:nvCxnSpPr>
          <p:spPr>
            <a:xfrm flipH="1">
              <a:off x="342864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177" name="Straight Arrow Connector 55"/>
            <p:cNvCxnSpPr/>
            <p:nvPr/>
          </p:nvCxnSpPr>
          <p:spPr>
            <a:xfrm flipH="1">
              <a:off x="2819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ja de guante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840" y="3657600"/>
            <a:ext cx="8821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 caja de guantes es una estación de trabajo encerrada que provee un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tmósf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gas (argón, nitrógeno o helio) circula continuamente entre la caja de guantes y el sistema de purificación de gas.  El gas se purifica a un valor &lt; 1 ppm en relación a la humedad y e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126320" y="-1441080"/>
            <a:ext cx="8910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OLED Evaporation"/>
          <p:cNvPicPr/>
          <p:nvPr/>
        </p:nvPicPr>
        <p:blipFill>
          <a:blip r:embed="rId1"/>
          <a:srcRect l="0" t="3710" r="0" b="16671"/>
          <a:stretch/>
        </p:blipFill>
        <p:spPr>
          <a:xfrm>
            <a:off x="1905120" y="717480"/>
            <a:ext cx="52196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es básico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5040360" y="1295280"/>
            <a:ext cx="396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ja de gu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glove bo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pacio de trabajo al vacío en acero inoxida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erto de gu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guantes (Glove port/glov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antes de butilo para trabajo cómod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cám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ntechamber): Para transferencia de material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mba de vací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Vacuum pu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evacuar el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bombear la antecáma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limpieza final de los purificadores al terminar el ciclo de regeneración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8000" y="1685880"/>
            <a:ext cx="5029200" cy="3648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9"/>
          <p:cNvSpPr/>
          <p:nvPr/>
        </p:nvSpPr>
        <p:spPr>
          <a:xfrm>
            <a:off x="112680" y="557532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7"/>
          <p:cNvSpPr/>
          <p:nvPr/>
        </p:nvSpPr>
        <p:spPr>
          <a:xfrm>
            <a:off x="5259240" y="1219320"/>
            <a:ext cx="396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Purificación de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mente se logra &lt; 1 ppm de oxíge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mente se logra &lt; 1 ppm hume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 purificador se puede regenerar usando una mezcla de los gases hidrógeno y nitróge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nel d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ra control central y monitoreo d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08000" y="1436760"/>
            <a:ext cx="5029200" cy="3647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41480" y="527040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es básicos de una Caja de guan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666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ón Básica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Workstation"/>
          <p:cNvPicPr/>
          <p:nvPr/>
        </p:nvPicPr>
        <p:blipFill>
          <a:blip r:embed="rId1"/>
          <a:stretch/>
        </p:blipFill>
        <p:spPr>
          <a:xfrm>
            <a:off x="228600" y="1569960"/>
            <a:ext cx="3451320" cy="3916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5"/>
          <p:cNvSpPr/>
          <p:nvPr/>
        </p:nvSpPr>
        <p:spPr>
          <a:xfrm>
            <a:off x="3886200" y="1076400"/>
            <a:ext cx="5181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 : Flujo de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rculación entre la caja y el purific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 : Filtro de esca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rada y salida de los tubos de circulación están protegidas por filtros de aerosol. Los filtros proveen una atmósfera libre de partículas y separan la caja de los purificadores y los tub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 :  Válvu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ualmente válvulas electroneumát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: Enfriamiento (intercambiador de calor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or eléctrico al igual que calor de compresión  aumenta la temperatura del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379440" y="572760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Workstation"/>
          <p:cNvPicPr/>
          <p:nvPr/>
        </p:nvPicPr>
        <p:blipFill>
          <a:blip r:embed="rId1"/>
          <a:stretch/>
        </p:blipFill>
        <p:spPr>
          <a:xfrm>
            <a:off x="374760" y="1341360"/>
            <a:ext cx="3657600" cy="4151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5"/>
          <p:cNvSpPr/>
          <p:nvPr/>
        </p:nvSpPr>
        <p:spPr>
          <a:xfrm>
            <a:off x="4267080" y="1308240"/>
            <a:ext cx="4778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 : Unidad purificadora (regener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xígeno: Removido por reacción química con cobre polydispers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edad (vapor de agua): Removido por adsorción en tamiz molecular microporos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ros gases: Remuev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odos los gases que reaccionan con el Cu o C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Atrapa 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ses que caben en los agujeros de 1.3 nm  del tamiz molecul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: Abanico (unidad de circulació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voca la circulación del flujo de gas. Está encapsulado en un recipiente al vací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70080" y="5645160"/>
            <a:ext cx="29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home2.btconnect.com/MBRAUN-UK/technical-guide.ht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38160" y="66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ón Básica de una Caja de guan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licacione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trabajar con organismos anaerob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smos vivos que no requieren oxígeno para sobrevivir y podrían posiblemente reaccionar negativamente y hasta morir, si hay oxígeno pres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el uso de materiales sensibles al oxígeno o a la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realizar soldadu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de baterías; e.g., las baterías de liti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eren un entorno de producción libre de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deposición de películas delgadas relativamente libres de contamin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.g., Al, Cu, P3HT/PC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utilizarse para permitir el trabajo con materiales peligrosos como patógenos en niveles de alta-bioseguridad y material radio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plicaciones de una Caja de Gu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deposición de películas delgadas relativamente libres de contamin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.g., Al, Cu, P3HT/PC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utilizarse para permitir el trabajo con materiales peligrosos como patógenos en niveles de alta-bioseguridad y material radio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868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erencia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xtractores limpios son menos populares para un control más estricto de partículas debido al potencial de contaminación inducido por el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problema de contaminación puede resolverse dividiendo el área de fabricación/síntesis en regiones  limpias denominadas "bahías" o "túnel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locan las estaciones de trabajo en estas bahías/tún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diseño, aire limpio entra en una bahía o túnel desde arriba por filtros HEPA incorporados en el t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materiales son menos vulnerables a la contaminación generada por el personal ya que hay menos trabajadores en el área inmed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desventaja es que la construcción de diseños con bahía/túnel es más costosa que con extractores y estos diseños son menos versátiles que los cuartos limpios, a la hora de cambios en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eño de Túnel/Bah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1066680" y="1523880"/>
            <a:ext cx="6257880" cy="4267440"/>
            <a:chOff x="1066680" y="1523880"/>
            <a:chExt cx="6257880" cy="4267440"/>
          </a:xfrm>
        </p:grpSpPr>
        <p:sp>
          <p:nvSpPr>
            <p:cNvPr id="208" name="TextBox 57"/>
            <p:cNvSpPr/>
            <p:nvPr/>
          </p:nvSpPr>
          <p:spPr>
            <a:xfrm>
              <a:off x="411480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s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49"/>
            <p:cNvGrpSpPr/>
            <p:nvPr/>
          </p:nvGrpSpPr>
          <p:grpSpPr>
            <a:xfrm>
              <a:off x="1066680" y="1893600"/>
              <a:ext cx="6257880" cy="3897720"/>
              <a:chOff x="1066680" y="1893600"/>
              <a:chExt cx="6257880" cy="3897720"/>
            </a:xfrm>
          </p:grpSpPr>
          <p:sp>
            <p:nvSpPr>
              <p:cNvPr id="210" name="Rectangle 2"/>
              <p:cNvSpPr/>
              <p:nvPr/>
            </p:nvSpPr>
            <p:spPr>
              <a:xfrm>
                <a:off x="2209680" y="2133000"/>
                <a:ext cx="5105520" cy="3658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3"/>
              <p:cNvSpPr/>
              <p:nvPr/>
            </p:nvSpPr>
            <p:spPr>
              <a:xfrm>
                <a:off x="2285640" y="4343400"/>
                <a:ext cx="2743200" cy="13716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6"/>
              <p:cNvGrpSpPr/>
              <p:nvPr/>
            </p:nvGrpSpPr>
            <p:grpSpPr>
              <a:xfrm>
                <a:off x="5028480" y="2437920"/>
                <a:ext cx="1676880" cy="380880"/>
                <a:chOff x="5028480" y="2437920"/>
                <a:chExt cx="1676880" cy="380880"/>
              </a:xfrm>
            </p:grpSpPr>
            <p:sp>
              <p:nvSpPr>
                <p:cNvPr id="213" name="Rectangle 17"/>
                <p:cNvSpPr/>
                <p:nvPr/>
              </p:nvSpPr>
              <p:spPr>
                <a:xfrm>
                  <a:off x="5029200" y="243792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Straight Connector 18"/>
                <p:cNvSpPr/>
                <p:nvPr/>
              </p:nvSpPr>
              <p:spPr>
                <a:xfrm>
                  <a:off x="5028480" y="262764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Straight Connector 19"/>
                <p:cNvSpPr/>
                <p:nvPr/>
              </p:nvSpPr>
              <p:spPr>
                <a:xfrm>
                  <a:off x="50961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Straight Connector 20"/>
                <p:cNvSpPr/>
                <p:nvPr/>
              </p:nvSpPr>
              <p:spPr>
                <a:xfrm>
                  <a:off x="52635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Straight Connector 21"/>
                <p:cNvSpPr/>
                <p:nvPr/>
              </p:nvSpPr>
              <p:spPr>
                <a:xfrm>
                  <a:off x="54313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Straight Connector 22"/>
                <p:cNvSpPr/>
                <p:nvPr/>
              </p:nvSpPr>
              <p:spPr>
                <a:xfrm>
                  <a:off x="56325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Straight Connector 23"/>
                <p:cNvSpPr/>
                <p:nvPr/>
              </p:nvSpPr>
              <p:spPr>
                <a:xfrm>
                  <a:off x="583380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Straight Connector 24"/>
                <p:cNvSpPr/>
                <p:nvPr/>
              </p:nvSpPr>
              <p:spPr>
                <a:xfrm>
                  <a:off x="603504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Straight Connector 25"/>
                <p:cNvSpPr/>
                <p:nvPr/>
              </p:nvSpPr>
              <p:spPr>
                <a:xfrm>
                  <a:off x="623628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Straight Connector 26"/>
                <p:cNvSpPr/>
                <p:nvPr/>
              </p:nvSpPr>
              <p:spPr>
                <a:xfrm>
                  <a:off x="64371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Straight Connector 27"/>
                <p:cNvSpPr/>
                <p:nvPr/>
              </p:nvSpPr>
              <p:spPr>
                <a:xfrm>
                  <a:off x="6604200" y="243792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9"/>
              <p:cNvGrpSpPr/>
              <p:nvPr/>
            </p:nvGrpSpPr>
            <p:grpSpPr>
              <a:xfrm>
                <a:off x="2818440" y="2437920"/>
                <a:ext cx="1676880" cy="380880"/>
                <a:chOff x="2818440" y="2437920"/>
                <a:chExt cx="1676880" cy="380880"/>
              </a:xfrm>
            </p:grpSpPr>
            <p:sp>
              <p:nvSpPr>
                <p:cNvPr id="225" name="Rectangle 30"/>
                <p:cNvSpPr/>
                <p:nvPr/>
              </p:nvSpPr>
              <p:spPr>
                <a:xfrm>
                  <a:off x="2819160" y="243792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31"/>
                <p:cNvSpPr/>
                <p:nvPr/>
              </p:nvSpPr>
              <p:spPr>
                <a:xfrm>
                  <a:off x="2818440" y="262764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32"/>
                <p:cNvSpPr/>
                <p:nvPr/>
              </p:nvSpPr>
              <p:spPr>
                <a:xfrm>
                  <a:off x="28861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33"/>
                <p:cNvSpPr/>
                <p:nvPr/>
              </p:nvSpPr>
              <p:spPr>
                <a:xfrm>
                  <a:off x="30535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Straight Connector 34"/>
                <p:cNvSpPr/>
                <p:nvPr/>
              </p:nvSpPr>
              <p:spPr>
                <a:xfrm>
                  <a:off x="322128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Straight Connector 35"/>
                <p:cNvSpPr/>
                <p:nvPr/>
              </p:nvSpPr>
              <p:spPr>
                <a:xfrm>
                  <a:off x="34225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Straight Connector 36"/>
                <p:cNvSpPr/>
                <p:nvPr/>
              </p:nvSpPr>
              <p:spPr>
                <a:xfrm>
                  <a:off x="362376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37"/>
                <p:cNvSpPr/>
                <p:nvPr/>
              </p:nvSpPr>
              <p:spPr>
                <a:xfrm>
                  <a:off x="382500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Straight Connector 38"/>
                <p:cNvSpPr/>
                <p:nvPr/>
              </p:nvSpPr>
              <p:spPr>
                <a:xfrm>
                  <a:off x="402624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Straight Connector 39"/>
                <p:cNvSpPr/>
                <p:nvPr/>
              </p:nvSpPr>
              <p:spPr>
                <a:xfrm>
                  <a:off x="4227120" y="243792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Straight Connector 40"/>
                <p:cNvSpPr/>
                <p:nvPr/>
              </p:nvSpPr>
              <p:spPr>
                <a:xfrm>
                  <a:off x="4394160" y="243792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Straight Connector 44"/>
              <p:cNvSpPr/>
              <p:nvPr/>
            </p:nvSpPr>
            <p:spPr>
              <a:xfrm flipH="1">
                <a:off x="2199600" y="2628720"/>
                <a:ext cx="61884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Straight Connector 51"/>
              <p:cNvSpPr/>
              <p:nvPr/>
            </p:nvSpPr>
            <p:spPr>
              <a:xfrm>
                <a:off x="4495680" y="2628720"/>
                <a:ext cx="533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Straight Connector 53"/>
              <p:cNvSpPr/>
              <p:nvPr/>
            </p:nvSpPr>
            <p:spPr>
              <a:xfrm>
                <a:off x="6705720" y="2628720"/>
                <a:ext cx="6188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9" name="Straight Arrow Connector 59"/>
              <p:cNvCxnSpPr>
                <a:stCxn id="208" idx="2"/>
                <a:endCxn id="225" idx="0"/>
              </p:cNvCxnSpPr>
              <p:nvPr/>
            </p:nvCxnSpPr>
            <p:spPr>
              <a:xfrm flipH="1">
                <a:off x="3657240" y="1893600"/>
                <a:ext cx="1219680" cy="54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0" name="Straight Arrow Connector 61"/>
              <p:cNvCxnSpPr>
                <a:stCxn id="208" idx="2"/>
                <a:endCxn id="213" idx="0"/>
              </p:cNvCxnSpPr>
              <p:nvPr/>
            </p:nvCxnSpPr>
            <p:spPr>
              <a:xfrm>
                <a:off x="4875480" y="1893600"/>
                <a:ext cx="991080" cy="54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pic>
            <p:nvPicPr>
              <p:cNvPr id="241" name="TextBox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3640" y="4822200"/>
                <a:ext cx="1603080" cy="816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2" name="Curved Connector 65"/>
              <p:cNvCxnSpPr/>
              <p:nvPr/>
            </p:nvCxnSpPr>
            <p:spPr>
              <a:xfrm rot="5400000">
                <a:off x="1903680" y="2666520"/>
                <a:ext cx="2058480" cy="68652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43" name="Curved Connector 67"/>
              <p:cNvCxnSpPr/>
              <p:nvPr/>
            </p:nvCxnSpPr>
            <p:spPr>
              <a:xfrm flipH="1" rot="16200000">
                <a:off x="2781000" y="2780640"/>
                <a:ext cx="1905840" cy="457920"/>
              </a:xfrm>
              <a:prstGeom prst="curvedConnector5">
                <a:avLst>
                  <a:gd name="adj1" fmla="val 49990"/>
                  <a:gd name="adj2" fmla="val 49960"/>
                  <a:gd name="adj3" fmla="val 4999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44" name="Curved Connector 69"/>
              <p:cNvCxnSpPr/>
              <p:nvPr/>
            </p:nvCxnSpPr>
            <p:spPr>
              <a:xfrm rot="5400000">
                <a:off x="4190040" y="274248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45" name="Curved Connector 71"/>
              <p:cNvCxnSpPr/>
              <p:nvPr/>
            </p:nvCxnSpPr>
            <p:spPr>
              <a:xfrm flipH="1" rot="16200000">
                <a:off x="5027760" y="274248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46" name="Straight Arrow Connector 73"/>
              <p:cNvCxnSpPr/>
              <p:nvPr/>
            </p:nvCxnSpPr>
            <p:spPr>
              <a:xfrm>
                <a:off x="1599480" y="3199680"/>
                <a:ext cx="1067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7" name="TextBox 74"/>
              <p:cNvSpPr/>
              <p:nvPr/>
            </p:nvSpPr>
            <p:spPr>
              <a:xfrm>
                <a:off x="1066680" y="289548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re Limpi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62"/>
              <p:cNvGrpSpPr/>
              <p:nvPr/>
            </p:nvGrpSpPr>
            <p:grpSpPr>
              <a:xfrm>
                <a:off x="5104800" y="4191120"/>
                <a:ext cx="457200" cy="1523880"/>
                <a:chOff x="5104800" y="4191120"/>
                <a:chExt cx="457200" cy="1523880"/>
              </a:xfrm>
            </p:grpSpPr>
            <p:sp>
              <p:nvSpPr>
                <p:cNvPr id="249" name="Straight Connector 55"/>
                <p:cNvSpPr/>
                <p:nvPr/>
              </p:nvSpPr>
              <p:spPr>
                <a:xfrm flipH="1" flipV="1">
                  <a:off x="5104800" y="4647960"/>
                  <a:ext cx="3049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Group 61"/>
                <p:cNvGrpSpPr/>
                <p:nvPr/>
              </p:nvGrpSpPr>
              <p:grpSpPr>
                <a:xfrm>
                  <a:off x="5180760" y="4191120"/>
                  <a:ext cx="381240" cy="1523880"/>
                  <a:chOff x="5180760" y="4191120"/>
                  <a:chExt cx="381240" cy="1523880"/>
                </a:xfrm>
              </p:grpSpPr>
              <p:sp>
                <p:nvSpPr>
                  <p:cNvPr id="251" name="Oval 41"/>
                  <p:cNvSpPr/>
                  <p:nvPr/>
                </p:nvSpPr>
                <p:spPr>
                  <a:xfrm>
                    <a:off x="5257080" y="4191120"/>
                    <a:ext cx="304920" cy="304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Straight Connector 43"/>
                  <p:cNvSpPr/>
                  <p:nvPr/>
                </p:nvSpPr>
                <p:spPr>
                  <a:xfrm flipH="1">
                    <a:off x="5409720" y="4495680"/>
                    <a:ext cx="1440" cy="600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Straight Connector 48"/>
                  <p:cNvSpPr/>
                  <p:nvPr/>
                </p:nvSpPr>
                <p:spPr>
                  <a:xfrm flipH="1">
                    <a:off x="5256720" y="510552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Straight Connector 50"/>
                  <p:cNvSpPr/>
                  <p:nvPr/>
                </p:nvSpPr>
                <p:spPr>
                  <a:xfrm>
                    <a:off x="5409000" y="510552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Straight Connector 57"/>
                  <p:cNvSpPr/>
                  <p:nvPr/>
                </p:nvSpPr>
                <p:spPr>
                  <a:xfrm flipH="1">
                    <a:off x="5180760" y="4723920"/>
                    <a:ext cx="22860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6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Enfoque de 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ocas palabras, un cuarto limpio es un volumen (una habitación), donde la contaminación se reduce y se c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uarto limpio está diseñado para reducir al mínimo los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rcRect l="33017" t="41668" r="32430" b="27087"/>
          <a:stretch/>
        </p:blipFill>
        <p:spPr>
          <a:xfrm>
            <a:off x="1066680" y="2133720"/>
            <a:ext cx="7043760" cy="35812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943560" y="3049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ímite de Tamaño y Densidad d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ículas en un Cuarto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minación de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humanos son la mayor fuente de contaminación de cuartos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operador de cuarto limpio, incluso después de una ducha de aire, emite entre 100.000 y 1.000.000 de partículas por minuto. Este número aumenta cuando una persona está en mov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dos millas por hora, un ser humano emite hasta 5 millones de partículas por minu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quipo de procesado es la segunda mayor fuente de contaminación de cuartos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enudo equipo de apoyo de procesamiento se col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área de apoyo de un recin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ara 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humanos deben ser aislados tanto como sea posible de los delicados materiales y equipos que se encuentran en un cuar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ersonal debe cubrirse con ropas especiales para cuarto limpio ("traje de conejo") que consiste en una capucha, máscara facial, overoles, botas y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stim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s procedimientos de vestimenta para cuarto limpio no protegen al usuario de los peligros de éste. Ellos sólo protegen al cuarto limpio de partículas generadas por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o de protección adicional se requiere para cierto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otocolo d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stim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excepción de las cubiertas del zapato, la vestimenta para cuartos limpios se produce de arriba hacia 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 se hace para reducir el desprendimiento de 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estimenta para cuartos limpios se produce en el siguiente 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para los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carillas y redec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f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276960" y="3505320"/>
            <a:ext cx="1190520" cy="2971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5072040" y="3505320"/>
            <a:ext cx="102384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3"/>
          <a:stretch/>
        </p:blipFill>
        <p:spPr>
          <a:xfrm>
            <a:off x="7608960" y="3505320"/>
            <a:ext cx="1077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cha de 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095640" cy="502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611280" y="1371600"/>
            <a:ext cx="342720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635040" y="6019920"/>
            <a:ext cx="310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www.clearsphere.ie/products-equipment-accessories.htm#3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5100120" y="6049800"/>
            <a:ext cx="26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http://encyclopedia2.thefreedictionary.com/clean+room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Por qué la necesitamos en nanotecnolog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Sistemas Basados en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Sistemas Basados en No-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rategia Total par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artos Limp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estrategia emplea un área abierta de fabricación/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iltración del aire se lleva a cabo por los filtros HEPA en el techo con retornos en el suelo, para dar un flujo continuo de air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flujo continuo de aire limpio permite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per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ás rápida, que es la cantidad de tiempo que le toma a los filtros devolver el área a una condición aceptable después de una perturb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instalación de clase 1 cambia de aire cada 6 segun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2476440" y="1219320"/>
            <a:ext cx="4191120" cy="44719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1544040" y="5867280"/>
            <a:ext cx="65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to limpio con patrón de circulación de aire de flujo lamin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uarto Limpio Mod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diseño de un cuarto limpio tradicional es el diseño de un salón de baile, donde los túneles de proceso individuales abren a un pasill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a cuarto limpio conlleva una compensación entre la limpieza y el costo, pero todos se construyen a partir de un diseño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uarto sellado que se suministra con el air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que son no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para prevenir la contamina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vibraciones, para equipos sen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mentos de un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2404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cuartos limpios utilizan una serie de técnicas para evitar que la contaminación afecte negativamente al proceso de fabricación/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69520" y="29066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fombras adhe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es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Área de vesti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ble puerta para atrav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796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pieza de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chas de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pieza de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Área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Enfoque de Mini-Amb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162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recientes costos de cuarto limpio con rendimientos decrecientes en la efectividad se han traducido en otro concepto de materiales de aislamiento en un ambiente lo más pequeñ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blema de cómo encadenar un número de mini-ambientes, de tal manera que un producto nunca se exponga al aire de la habitación se resuelve mediante el transporte de las muestras en un ambiente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jemplo de la aplicación industrial de este enfoque es la interfaz mecánica estándar de Hewlett-Packard (SMIF, por sus siglas en ing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istemas SMIF tienen tres par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ápsula o caja, para el transporte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ini-ambiente aislado en la próxima estación de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mecanismo para la extracción y descarga de los materiales en cada estación sucesiva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8"/>
          <p:cNvGrpSpPr/>
          <p:nvPr/>
        </p:nvGrpSpPr>
        <p:grpSpPr>
          <a:xfrm>
            <a:off x="533520" y="914400"/>
            <a:ext cx="8458200" cy="4952880"/>
            <a:chOff x="533520" y="914400"/>
            <a:chExt cx="8458200" cy="4952880"/>
          </a:xfrm>
        </p:grpSpPr>
        <p:sp>
          <p:nvSpPr>
            <p:cNvPr id="294" name="Rectangle 2"/>
            <p:cNvSpPr/>
            <p:nvPr/>
          </p:nvSpPr>
          <p:spPr>
            <a:xfrm>
              <a:off x="533520" y="1752480"/>
              <a:ext cx="5715000" cy="411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"/>
            <p:cNvSpPr/>
            <p:nvPr/>
          </p:nvSpPr>
          <p:spPr>
            <a:xfrm>
              <a:off x="6705720" y="2286000"/>
              <a:ext cx="228600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Manual Operation 4"/>
            <p:cNvSpPr/>
            <p:nvPr/>
          </p:nvSpPr>
          <p:spPr>
            <a:xfrm>
              <a:off x="6934320" y="3276360"/>
              <a:ext cx="1828800" cy="228600"/>
            </a:xfrm>
            <a:prstGeom prst="flowChartManualOperation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6"/>
            <p:cNvSpPr/>
            <p:nvPr/>
          </p:nvSpPr>
          <p:spPr>
            <a:xfrm flipH="1">
              <a:off x="7161480" y="2820960"/>
              <a:ext cx="2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7"/>
            <p:cNvSpPr/>
            <p:nvPr/>
          </p:nvSpPr>
          <p:spPr>
            <a:xfrm flipH="1">
              <a:off x="73155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8"/>
            <p:cNvSpPr/>
            <p:nvPr/>
          </p:nvSpPr>
          <p:spPr>
            <a:xfrm flipH="1">
              <a:off x="74678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9"/>
            <p:cNvSpPr/>
            <p:nvPr/>
          </p:nvSpPr>
          <p:spPr>
            <a:xfrm flipH="1">
              <a:off x="76201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10"/>
            <p:cNvSpPr/>
            <p:nvPr/>
          </p:nvSpPr>
          <p:spPr>
            <a:xfrm flipH="1">
              <a:off x="77727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11"/>
            <p:cNvSpPr/>
            <p:nvPr/>
          </p:nvSpPr>
          <p:spPr>
            <a:xfrm flipH="1">
              <a:off x="79250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12"/>
            <p:cNvSpPr/>
            <p:nvPr/>
          </p:nvSpPr>
          <p:spPr>
            <a:xfrm flipH="1">
              <a:off x="80773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13"/>
            <p:cNvSpPr/>
            <p:nvPr/>
          </p:nvSpPr>
          <p:spPr>
            <a:xfrm flipH="1">
              <a:off x="82299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14"/>
            <p:cNvSpPr/>
            <p:nvPr/>
          </p:nvSpPr>
          <p:spPr>
            <a:xfrm flipH="1">
              <a:off x="83822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traight Connector 15"/>
            <p:cNvSpPr/>
            <p:nvPr/>
          </p:nvSpPr>
          <p:spPr>
            <a:xfrm flipH="1">
              <a:off x="85345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6629760" y="2285640"/>
              <a:ext cx="152280" cy="1448280"/>
              <a:chOff x="6629760" y="2285640"/>
              <a:chExt cx="152280" cy="1448280"/>
            </a:xfrm>
          </p:grpSpPr>
          <p:sp>
            <p:nvSpPr>
              <p:cNvPr id="308" name="Rectangle 18"/>
              <p:cNvSpPr/>
              <p:nvPr/>
            </p:nvSpPr>
            <p:spPr>
              <a:xfrm rot="16200000">
                <a:off x="598212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Straight Connector 19"/>
              <p:cNvSpPr/>
              <p:nvPr/>
            </p:nvSpPr>
            <p:spPr>
              <a:xfrm flipV="1">
                <a:off x="670572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Straight Connector 20"/>
              <p:cNvSpPr/>
              <p:nvPr/>
            </p:nvSpPr>
            <p:spPr>
              <a:xfrm flipV="1">
                <a:off x="662976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Straight Connector 21"/>
              <p:cNvSpPr/>
              <p:nvPr/>
            </p:nvSpPr>
            <p:spPr>
              <a:xfrm flipV="1">
                <a:off x="662976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22"/>
              <p:cNvSpPr/>
              <p:nvPr/>
            </p:nvSpPr>
            <p:spPr>
              <a:xfrm flipV="1">
                <a:off x="662976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23"/>
              <p:cNvSpPr/>
              <p:nvPr/>
            </p:nvSpPr>
            <p:spPr>
              <a:xfrm flipV="1">
                <a:off x="662976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Straight Connector 24"/>
              <p:cNvSpPr/>
              <p:nvPr/>
            </p:nvSpPr>
            <p:spPr>
              <a:xfrm flipV="1">
                <a:off x="662976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Straight Connector 25"/>
              <p:cNvSpPr/>
              <p:nvPr/>
            </p:nvSpPr>
            <p:spPr>
              <a:xfrm flipV="1">
                <a:off x="662976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Straight Connector 26"/>
              <p:cNvSpPr/>
              <p:nvPr/>
            </p:nvSpPr>
            <p:spPr>
              <a:xfrm flipV="1">
                <a:off x="662976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27"/>
              <p:cNvSpPr/>
              <p:nvPr/>
            </p:nvSpPr>
            <p:spPr>
              <a:xfrm flipV="1">
                <a:off x="662976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28"/>
              <p:cNvSpPr/>
              <p:nvPr/>
            </p:nvSpPr>
            <p:spPr>
              <a:xfrm flipV="1">
                <a:off x="662976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29"/>
            <p:cNvGrpSpPr/>
            <p:nvPr/>
          </p:nvGrpSpPr>
          <p:grpSpPr>
            <a:xfrm>
              <a:off x="6248520" y="2285640"/>
              <a:ext cx="152280" cy="1448280"/>
              <a:chOff x="6248520" y="2285640"/>
              <a:chExt cx="152280" cy="1448280"/>
            </a:xfrm>
          </p:grpSpPr>
          <p:sp>
            <p:nvSpPr>
              <p:cNvPr id="320" name="Rectangle 30"/>
              <p:cNvSpPr/>
              <p:nvPr/>
            </p:nvSpPr>
            <p:spPr>
              <a:xfrm rot="16200000">
                <a:off x="560088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Straight Connector 31"/>
              <p:cNvSpPr/>
              <p:nvPr/>
            </p:nvSpPr>
            <p:spPr>
              <a:xfrm flipV="1">
                <a:off x="632448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32"/>
              <p:cNvSpPr/>
              <p:nvPr/>
            </p:nvSpPr>
            <p:spPr>
              <a:xfrm flipV="1">
                <a:off x="624852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Straight Connector 33"/>
              <p:cNvSpPr/>
              <p:nvPr/>
            </p:nvSpPr>
            <p:spPr>
              <a:xfrm flipV="1">
                <a:off x="624852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Straight Connector 34"/>
              <p:cNvSpPr/>
              <p:nvPr/>
            </p:nvSpPr>
            <p:spPr>
              <a:xfrm flipV="1">
                <a:off x="624852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Straight Connector 35"/>
              <p:cNvSpPr/>
              <p:nvPr/>
            </p:nvSpPr>
            <p:spPr>
              <a:xfrm flipV="1">
                <a:off x="624852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36"/>
              <p:cNvSpPr/>
              <p:nvPr/>
            </p:nvSpPr>
            <p:spPr>
              <a:xfrm flipV="1">
                <a:off x="624852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37"/>
              <p:cNvSpPr/>
              <p:nvPr/>
            </p:nvSpPr>
            <p:spPr>
              <a:xfrm flipV="1">
                <a:off x="624852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Straight Connector 38"/>
              <p:cNvSpPr/>
              <p:nvPr/>
            </p:nvSpPr>
            <p:spPr>
              <a:xfrm flipV="1">
                <a:off x="624852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Straight Connector 39"/>
              <p:cNvSpPr/>
              <p:nvPr/>
            </p:nvSpPr>
            <p:spPr>
              <a:xfrm flipV="1">
                <a:off x="624852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Straight Connector 40"/>
              <p:cNvSpPr/>
              <p:nvPr/>
            </p:nvSpPr>
            <p:spPr>
              <a:xfrm flipV="1">
                <a:off x="624852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41"/>
            <p:cNvSpPr/>
            <p:nvPr/>
          </p:nvSpPr>
          <p:spPr>
            <a:xfrm>
              <a:off x="7467840" y="9144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ápsula aislada al vacío o atmósfera iner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43"/>
            <p:cNvCxnSpPr>
              <a:stCxn id="331" idx="2"/>
              <a:endCxn id="295" idx="0"/>
            </p:cNvCxnSpPr>
            <p:nvPr/>
          </p:nvCxnSpPr>
          <p:spPr>
            <a:xfrm flipH="1">
              <a:off x="7848360" y="1652040"/>
              <a:ext cx="38160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TextBox 46"/>
            <p:cNvSpPr/>
            <p:nvPr/>
          </p:nvSpPr>
          <p:spPr>
            <a:xfrm>
              <a:off x="7010640" y="348624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áminas  en una cint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7"/>
            <p:cNvSpPr/>
            <p:nvPr/>
          </p:nvSpPr>
          <p:spPr>
            <a:xfrm>
              <a:off x="6401160" y="403848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nterfaz Mecánica Estánda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MIF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49"/>
            <p:cNvCxnSpPr>
              <a:endCxn id="320" idx="1"/>
            </p:cNvCxnSpPr>
            <p:nvPr/>
          </p:nvCxnSpPr>
          <p:spPr>
            <a:xfrm flipH="1" flipV="1">
              <a:off x="6324120" y="3733560"/>
              <a:ext cx="2293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Straight Arrow Connector 51"/>
            <p:cNvCxnSpPr>
              <a:endCxn id="308" idx="1"/>
            </p:cNvCxnSpPr>
            <p:nvPr/>
          </p:nvCxnSpPr>
          <p:spPr>
            <a:xfrm flipV="1">
              <a:off x="6552360" y="3733560"/>
              <a:ext cx="1530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Shape 53"/>
            <p:cNvCxnSpPr>
              <a:stCxn id="294" idx="0"/>
            </p:cNvCxnSpPr>
            <p:nvPr/>
          </p:nvCxnSpPr>
          <p:spPr>
            <a:xfrm flipH="1" rot="16200000">
              <a:off x="3775680" y="1366560"/>
              <a:ext cx="2086560" cy="2858040"/>
            </a:xfrm>
            <a:prstGeom prst="bentConnector4">
              <a:avLst>
                <a:gd name="adj1" fmla="val 100914"/>
                <a:gd name="adj2" fmla="val 327"/>
              </a:avLst>
            </a:prstGeom>
            <a:ln w="76320">
              <a:solidFill>
                <a:srgbClr val="000000"/>
              </a:solidFill>
              <a:round/>
            </a:ln>
          </p:spPr>
        </p:cxnSp>
        <p:sp>
          <p:nvSpPr>
            <p:cNvPr id="338" name="Trapezoid 61"/>
            <p:cNvSpPr/>
            <p:nvPr/>
          </p:nvSpPr>
          <p:spPr>
            <a:xfrm>
              <a:off x="3848040" y="3610080"/>
              <a:ext cx="1066680" cy="228600"/>
            </a:xfrm>
            <a:custGeom>
              <a:avLst/>
              <a:gdLst/>
              <a:ahLst/>
              <a:rect l="l" t="t" r="r" b="b"/>
              <a:pathLst>
                <a:path w="1066800" h="228600">
                  <a:moveTo>
                    <a:pt x="0" y="228600"/>
                  </a:moveTo>
                  <a:lnTo>
                    <a:pt x="57150" y="0"/>
                  </a:lnTo>
                  <a:lnTo>
                    <a:pt x="1009650" y="0"/>
                  </a:lnTo>
                  <a:lnTo>
                    <a:pt x="1066800" y="228600"/>
                  </a:lnTo>
                  <a:lnTo>
                    <a:pt x="0" y="228600"/>
                  </a:lnTo>
                  <a:close/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Shape 51"/>
            <p:cNvCxnSpPr>
              <a:stCxn id="338" idx="0"/>
            </p:cNvCxnSpPr>
            <p:nvPr/>
          </p:nvCxnSpPr>
          <p:spPr>
            <a:xfrm flipH="1" flipV="1" rot="5400000">
              <a:off x="4462200" y="2966400"/>
              <a:ext cx="562680" cy="724320"/>
            </a:xfrm>
            <a:prstGeom prst="bentConnector2">
              <a:avLst/>
            </a:prstGeom>
            <a:ln w="38160">
              <a:solidFill>
                <a:srgbClr val="000000"/>
              </a:solidFill>
              <a:round/>
            </a:ln>
          </p:spPr>
        </p:cxnSp>
        <p:sp>
          <p:nvSpPr>
            <p:cNvPr id="340" name="Left Brace 52"/>
            <p:cNvSpPr/>
            <p:nvPr/>
          </p:nvSpPr>
          <p:spPr>
            <a:xfrm>
              <a:off x="5105520" y="2743200"/>
              <a:ext cx="838080" cy="609480"/>
            </a:xfrm>
            <a:custGeom>
              <a:avLst/>
              <a:gdLst>
                <a:gd name="textAreaLeft" fmla="*/ 535320 w 838080"/>
                <a:gd name="textAreaRight" fmla="*/ 838440 w 8380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59"/>
            <p:cNvSpPr/>
            <p:nvPr/>
          </p:nvSpPr>
          <p:spPr>
            <a:xfrm>
              <a:off x="2286000" y="4419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s de proces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Group 29" descr=""/>
            <p:cNvPicPr/>
            <p:nvPr/>
          </p:nvPicPr>
          <p:blipFill>
            <a:blip r:embed="rId1"/>
            <a:stretch/>
          </p:blipFill>
          <p:spPr>
            <a:xfrm>
              <a:off x="3304080" y="1725120"/>
              <a:ext cx="298440" cy="22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Box 75"/>
            <p:cNvSpPr/>
            <p:nvPr/>
          </p:nvSpPr>
          <p:spPr>
            <a:xfrm>
              <a:off x="3876840" y="18284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 de carg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76"/>
            <p:cNvSpPr/>
            <p:nvPr/>
          </p:nvSpPr>
          <p:spPr>
            <a:xfrm>
              <a:off x="3657600" y="25146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zo de carga robótic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77"/>
            <p:cNvSpPr/>
            <p:nvPr/>
          </p:nvSpPr>
          <p:spPr>
            <a:xfrm>
              <a:off x="1257120" y="345132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o interno de la cámara princip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Straight Arrow Connector 79"/>
            <p:cNvCxnSpPr/>
            <p:nvPr/>
          </p:nvCxnSpPr>
          <p:spPr>
            <a:xfrm flipV="1">
              <a:off x="2438280" y="2805120"/>
              <a:ext cx="915120" cy="70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7" name="Rectangle 68"/>
          <p:cNvSpPr/>
          <p:nvPr/>
        </p:nvSpPr>
        <p:spPr>
          <a:xfrm>
            <a:off x="6467400" y="6010200"/>
            <a:ext cx="24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Sistema SM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SMIF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la ventaj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 control de temperatura y 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s pérdidas de rendimiento debido a la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las cápsulas pueden ser demasiado pesadas y c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n usar robots ​​para manipular las cajas SMIF, lo que aumenta el costo y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52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e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qué hacen falta instalaciones especi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staciones de trabajo lim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structuras de túnel/bah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uarto li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ini-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0" y="14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qué hacen falta instalaciones especi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acio para 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 trabajadores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s de instalaciones us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 de Túnel/ Bah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os lim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jas SM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5410080" y="1447920"/>
            <a:ext cx="3200400" cy="4495680"/>
            <a:chOff x="5410080" y="1447920"/>
            <a:chExt cx="3200400" cy="4495680"/>
          </a:xfrm>
        </p:grpSpPr>
        <p:pic>
          <p:nvPicPr>
            <p:cNvPr id="67" name="Picture 1" descr=""/>
            <p:cNvPicPr/>
            <p:nvPr/>
          </p:nvPicPr>
          <p:blipFill>
            <a:blip r:embed="rId1"/>
            <a:stretch/>
          </p:blipFill>
          <p:spPr>
            <a:xfrm>
              <a:off x="5410080" y="1447920"/>
              <a:ext cx="3200400" cy="25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" descr="OLED Evaporation"/>
            <p:cNvPicPr/>
            <p:nvPr/>
          </p:nvPicPr>
          <p:blipFill>
            <a:blip r:embed="rId2"/>
            <a:stretch/>
          </p:blipFill>
          <p:spPr>
            <a:xfrm>
              <a:off x="5410080" y="3796920"/>
              <a:ext cx="3200400" cy="21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4"/>
          <p:cNvSpPr/>
          <p:nvPr/>
        </p:nvSpPr>
        <p:spPr>
          <a:xfrm>
            <a:off x="5486400" y="619128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techon.nikkeibp.co.jp/NEA/archive/200205/183172/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enfoque en la nanofabricación y la síntesis es crear estaciones de trabajo individuales, tales como extractores químicos con filtros de aire y materiales que no produzcan pelus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hedding material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habitación grande con las estaciones de trabajo (o los extractores) dispuestas en filas, para que los productos de fabricación se puedan mover a cada estación, sin entrar en contacto con aire "sucio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ciones de trabajo limp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os en los extractores limpios se conocen como filtros HEPA (High Efficiency Particle Atten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iltros HEPA consisten de grandes fibras porosas, plegadas en diseño de acordeón a un portafil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n el paso de un alto volumen de aire a baja velocidad (90-100 pies/min) y tienen una alta eficiencia de filtración (99.99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1:31:18Z</dcterms:modified>
  <cp:revision>377</cp:revision>
  <dc:subject/>
  <dc:title>Nanofabrication Manufacturing Technology Program</dc:title>
</cp:coreProperties>
</file>